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200-5CDE-49AD-BEB5-165483E615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A6A-81AF-430C-9C7A-81755B4C68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295-F817-404D-B650-6684E8D9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27C-7166-4794-87B3-939A67D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0C9-C756-47F2-9014-A958B05D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245-1685-4625-A81B-65A1524F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B18C-CF0C-41F8-8C6D-3C2B1BD4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8210-F50B-4F6D-96E2-1A220713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99C2-9D53-4340-B648-370E7E0A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A48A-52E6-4996-92E7-A992886C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02F-1E2A-44E6-985A-E78587D1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AD1E-3E7A-4684-B21D-96C6213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CE6D-E23B-4FEA-8FC0-0A9F763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0FA-2DFC-4799-88F4-E26F6F3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959-DD0B-4293-A35E-DDB0C53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30F-A363-4C4B-92B7-7305CE3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413-2619-4ADA-9A4D-F345C2F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4CC5-94A7-4F67-9A81-A04486FF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968-A273-42C8-A8EA-23CFC4DE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C82-BAE1-448D-9D25-26428C4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472-354A-4771-B822-9A0D461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ED0-740E-40CF-BA53-47F5C9C8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8D8-6257-4BA8-839C-B99ACE6C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FC0-FBE1-41F4-90BF-89BFA83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D60-EDA6-45A4-B0EC-730DD3F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BB4-BA02-4CA4-AC1D-E28954C3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DBFC-80AE-4049-A7C3-46FE827FE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D3E4-DA1C-42DE-A008-FA61B94AEB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hyperlink" Target="http://www.photoshoper2.ucoz.ru/_ph/19/1/724934291.jpg" TargetMode="External"/><Relationship Id="rId4" Type="http://schemas.openxmlformats.org/officeDocument/2006/relationships/hyperlink" Target="http://www.photoshoper2.ucoz.ru/_ph/19/1/724934291.jpg" TargetMode="External"/><Relationship Id="rId5" Type="http://schemas.openxmlformats.org/officeDocument/2006/relationships/hyperlink" Target="http://www.photoshoper2.ucoz.ru/_ph/19/1/724934291.jpg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iografija.ru/pictures/m_22937.jpg" TargetMode="External"/><Relationship Id="rId2" Type="http://schemas.openxmlformats.org/officeDocument/2006/relationships/hyperlink" Target="https://static.auction.ru/offer_images/2015/08/12/05/big/J/jp4EPvy4JUC/portret_v_g_korolenko_reprodukcija_a4.jpg" TargetMode="External"/><Relationship Id="rId3" Type="http://schemas.openxmlformats.org/officeDocument/2006/relationships/hyperlink" Target="https://static.auction.ru/offer_images/2015/08/12/05/big/J/jp4EPvy4JUC/portret_v_g_korolenko_reprodukcija_a4.jpg" TargetMode="External"/><Relationship Id="rId4" Type="http://schemas.openxmlformats.org/officeDocument/2006/relationships/hyperlink" Target="http://shkolazhizni.ru/img/content/i63/63878_or.jpg" TargetMode="External"/><Relationship Id="rId5" Type="http://schemas.openxmlformats.org/officeDocument/2006/relationships/hyperlink" Target="http://korolenko.lit-info.ru/images/museum-1223/1223-2_0.jpg" TargetMode="External"/><Relationship Id="rId6" Type="http://schemas.openxmlformats.org/officeDocument/2006/relationships/hyperlink" Target="http://korolenko.lit-info.ru/images/museum-1223/1223-2_0.jpg" TargetMode="External"/><Relationship Id="rId7" Type="http://schemas.openxmlformats.org/officeDocument/2006/relationships/hyperlink" Target="https://autotravel.ru/phalbum/90790/166.jpg" TargetMode="External"/><Relationship Id="rId8" Type="http://schemas.openxmlformats.org/officeDocument/2006/relationships/hyperlink" Target="https://autotravel.ru/phalbum/90790/166.jp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В. Г. Короленк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«Слепой музыкант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3520" y="27432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ртист, играющий на музыкальном инструменте, творческая личность, талантливый человек, нашедший своё призвани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762120" y="2057400"/>
            <a:ext cx="327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узыка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5"/>
          <p:cNvSpPr/>
          <p:nvPr/>
        </p:nvSpPr>
        <p:spPr>
          <a:xfrm flipH="1">
            <a:off x="2514240" y="198108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tt-RU" sz="4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речение или краткое высказывание, находящееся до произведения и характеризующее его иде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62120" y="1600200"/>
            <a:ext cx="3047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tt-RU" sz="4000" spc="-1" strike="noStrike">
                <a:solidFill>
                  <a:srgbClr val="ffffff"/>
                </a:solidFill>
                <a:latin typeface="Times New Roman"/>
              </a:rPr>
              <a:t>Эпиграф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2"/>
          <p:cNvSpPr/>
          <p:nvPr/>
        </p:nvSpPr>
        <p:spPr>
          <a:xfrm flipH="1">
            <a:off x="1752480" y="1600200"/>
            <a:ext cx="152640" cy="228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051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tt-RU" sz="4000" spc="-1" strike="noStrike">
                <a:solidFill>
                  <a:srgbClr val="ffffff"/>
                </a:solidFill>
                <a:latin typeface="Times New Roman"/>
              </a:rPr>
              <a:t>совокупность психических процессов (ощущений, мыслей, чувств), являющихся причиной какого-нибудь рода деятельности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1447920" y="1905120"/>
            <a:ext cx="3581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сихолог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5"/>
          <p:cNvSpPr/>
          <p:nvPr/>
        </p:nvSpPr>
        <p:spPr>
          <a:xfrm flipH="1">
            <a:off x="3428640" y="182880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. Г. Короленко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«Слепой музыкант»</a:t>
            </a:r>
            <a:br>
              <a:rPr sz="5400"/>
            </a:b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прозрение, осознание прошлых заблуждений и обретение внутреннего поко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380880" y="1905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Духовное обновлени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5"/>
          <p:cNvSpPr/>
          <p:nvPr/>
        </p:nvSpPr>
        <p:spPr>
          <a:xfrm flipH="1">
            <a:off x="1752480" y="1828800"/>
            <a:ext cx="15264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7"/>
          <p:cNvSpPr/>
          <p:nvPr/>
        </p:nvSpPr>
        <p:spPr>
          <a:xfrm flipH="1">
            <a:off x="4647960" y="1828800"/>
            <a:ext cx="15228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4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2"/>
          <a:stretch/>
        </p:blipFill>
        <p:spPr>
          <a:xfrm>
            <a:off x="1359000" y="542880"/>
            <a:ext cx="6657840" cy="214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Картинка 75 из 86"/>
          <p:cNvPicPr/>
          <p:nvPr/>
        </p:nvPicPr>
        <p:blipFill>
          <a:blip r:embed="rId3"/>
          <a:stretch/>
        </p:blipFill>
        <p:spPr>
          <a:xfrm>
            <a:off x="500040" y="2357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Картинка 75 из 86"/>
          <p:cNvPicPr/>
          <p:nvPr/>
        </p:nvPicPr>
        <p:blipFill>
          <a:blip r:embed="rId4"/>
          <a:stretch/>
        </p:blipFill>
        <p:spPr>
          <a:xfrm>
            <a:off x="4857840" y="3571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Картинка 75 из 86"/>
          <p:cNvPicPr/>
          <p:nvPr/>
        </p:nvPicPr>
        <p:blipFill>
          <a:blip r:embed="rId5"/>
          <a:stretch/>
        </p:blipFill>
        <p:spPr>
          <a:xfrm>
            <a:off x="814392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Картинка 75 из 86"/>
          <p:cNvPicPr/>
          <p:nvPr/>
        </p:nvPicPr>
        <p:blipFill>
          <a:blip r:embed="rId6"/>
          <a:stretch/>
        </p:blipFill>
        <p:spPr>
          <a:xfrm>
            <a:off x="685800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2" descr=""/>
          <p:cNvPicPr/>
          <p:nvPr/>
        </p:nvPicPr>
        <p:blipFill>
          <a:blip r:embed="rId7"/>
          <a:stretch/>
        </p:blipFill>
        <p:spPr>
          <a:xfrm>
            <a:off x="2590920" y="2871720"/>
            <a:ext cx="418788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91 0.06846 C -0.09236 -0.08302 -0.15764 -0.23404 -0.22847 -0.23358 C -0.29948 -0.23311 -0.38108 0.05343 -0.45226 0.07031 C -0.52344 0.08719 -0.59254 -0.09389 -0.65521 -0.13413 C -0.71788 -0.17437 -0.81771 -0.15356 -0.82847 -0.1716 C -0.83924 -0.18964 -0.73854 -0.23103 -0.71997 -0.24283 E">
                                      <p:cBhvr>
                                        <p:cTn id="13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1295280" y="990720"/>
            <a:ext cx="609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7a8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5334120" y="5562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7a8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45720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6">
            <a:hlinkClick r:id="rId3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>
            <a:hlinkClick r:id="rId4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0">
            <a:hlinkClick r:id="rId5"/>
          </p:cNvPr>
          <p:cNvSpPr/>
          <p:nvPr/>
        </p:nvSpPr>
        <p:spPr>
          <a:xfrm>
            <a:off x="4214880" y="307188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-0.10014 C 0.36198 0.01526 0.71025 0.1309 0.825 0.01249 C 0.93976 -0.10592 0.84028 -0.67576 0.70243 -0.81106 C 0.56459 -0.94635 0.11615 -0.91351 -0.00173 -0.79995 C -0.11962 -0.6864 -0.08403 -0.1975 -0.00451 -0.12997 C 0.075 -0.06244 0.39983 -0.34829 0.4757 -0.39454 C 0.55157 -0.4408 0.45243 -0.41027 0.45035 -0.40773 C 0.44827 -0.40518 0.4599 -0.38229 0.46302 -0.37951 C 0.46615 -0.37674 0.46719 -0.3839 0.46875 -0.39084 E">
                                      <p:cBhvr>
                                        <p:cTn id="150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457200" y="5867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4 -0.34829 C -0.05364 -0.13737 0.04167 0.03608 0.15816 0.03608 C 0.29514 0.03608 0.34497 -0.15611 0.36563 -0.27174 L 0.38716 -0.42484 C 0.40851 -0.54047 0.46129 -0.73242 0.61615 -0.73242 C 0.71528 -0.73242 0.82813 -0.55921 0.82813 -0.34829 C 0.82813 -0.13737 0.71528 0.03608 0.61615 0.03608 C 0.46129 0.03608 0.40851 -0.15611 0.38716 -0.27174 L 0.36563 -0.42484 C 0.34497 -0.54047 0.29514 -0.73242 0.15816 -0.73242 C 0.04167 -0.73242 -0.05364 -0.55921 -0.05364 -0.34829 Z">
                                      <p:cBhvr>
                                        <p:cTn id="156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GE046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артинка 75 из 86"/>
          <p:cNvPicPr/>
          <p:nvPr/>
        </p:nvPicPr>
        <p:blipFill>
          <a:blip r:embed="rId2"/>
          <a:stretch/>
        </p:blipFill>
        <p:spPr>
          <a:xfrm>
            <a:off x="8143920" y="4287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44357 C -0.02014 0.17807 -0.19045 -0.05158 -0.41841 -0.0673 C -0.63646 -0.08696 -0.84028 0.09089 -0.85382 0.34875 C -0.87066 0.58603 -0.72795 0.80805 -0.52361 0.82423 C -0.33716 0.83603 -0.1599 0.68917 -0.14636 0.46762 C -0.13264 0.26572 -0.25191 0.07516 -0.425 0.05943 C -0.58507 0.04764 -0.73507 0.17067 -0.74497 0.35638 C -0.75521 0.52289 -0.66007 0.68501 -0.51702 0.69334 C -0.38785 0.70513 -0.26545 0.61008 -0.25486 0.45976 C -0.24844 0.3247 -0.31979 0.19426 -0.43212 0.1864 C -0.53056 0.17807 -0.62952 0.24977 -0.63646 0.36471 C -0.64271 0.46369 -0.59202 0.55874 -0.51007 0.5666 C -0.44202 0.57447 -0.37066 0.53099 -0.36702 0.45189 C -0.36059 0.38806 -0.38785 0.32053 -0.43872 0.31313 C -0.47986 0.31313 -0.52066 0.32886 -0.52726 0.37211 C -0.53056 0.40055 -0.52361 0.42784 -0.50347 0.43964 C -0.49341 0.44357 -0.48646 0.44357 -0.47656 0.43964 E">
                                      <p:cBhvr>
                                        <p:cTn id="162" dur="5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Речевая разминка</a:t>
            </a:r>
            <a:br>
              <a:rPr sz="4400"/>
            </a:b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– э – а – о – у – 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 – тэ – та – то – ту – 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, э, а, о, у, 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топота копыт пыль по полю лет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3505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Моя главная художественная задач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ыла не специальная психология слеп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психология общечеловеческой то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недостижим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тоски по полноте существова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 Г. Корол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609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В. Г. Короленк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«Слепой музыкант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исать сочинение-размышление на тему «Что такое выбор жизни? Как я это понимаю?» или «В чём смысл жизни?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сказ понравившегося эпизода пове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9144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ксёнова А.К.  Методика обучения русскому языку во вспомогательной школе. Допущено МО РФ в качестве учебного пособия для студентов дефектологических факультетов педагогических институтов. - М.: Просвещение, 199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олотарева И.В., Крысова Т.А. В помощь школьному учителю. - М.: ВАКО, 200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лышева З.Ф. Чтение. Учебник для 8 класса специальных (коррекционных) образовательных учреждений VIII вида. Допущено МО РФ. - М.: Просвещение, 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ебная программа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ида. 5-9 классы. Сборник 1. Под редакцией В.В.Воронковой. Допущено МО РФ – М.: Владос,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 http://www.biografija.ru/pictures/m_22937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https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static.auction.ru/offer_images/2015/08/12/05/big/J/jp4EPvy4JUC/portret_v_g_korolenko_reprodukcija_a4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http://shkolazhizni.ru/img/content/i63/63878_or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korolenko.lit-info.ru/images/museum-1223/1223-2_0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https://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autotravel.ru/phalbum/90790/166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http://publ.lib.ru/ARCHIVES/K/KOROLENKO_Vladimir_Galaktionovich/.Online/Korolenko_V.G.-P001.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toyota-rus2.narod.ru/files/voyage3/12-11-20_voyage-1281/1421562V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s://pm1.narvii.com/6565/2e09891254997345e3048270807327c86d44f142_hq.jp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ортреты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687240" y="1523880"/>
            <a:ext cx="3635640" cy="4673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3" name="Рисунок 6" descr=""/>
          <p:cNvPicPr/>
          <p:nvPr/>
        </p:nvPicPr>
        <p:blipFill>
          <a:blip r:embed="rId2"/>
          <a:stretch/>
        </p:blipFill>
        <p:spPr>
          <a:xfrm>
            <a:off x="4952880" y="1549440"/>
            <a:ext cx="3421080" cy="46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7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676680" cy="490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7" name="Рисунок 4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492360" cy="490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Дом-музей В.Г. Короленко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в Геленджик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409680" y="2438280"/>
            <a:ext cx="4010040" cy="30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7040" cy="3048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Музей-усадьба В.Г. Короленко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в Полтав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038840" cy="27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116240" cy="27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ллюстрации к повести В.Г. Короленко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Слепой музыкант»</a:t>
            </a:r>
            <a:br>
              <a:rPr sz="2800"/>
            </a:br>
            <a:br>
              <a:rPr sz="2000"/>
            </a:b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33036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46" name="Содержимое 3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73392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47920" y="1828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.Г. Короленко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«Слепой музыкант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Анализ текста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зрячий человек, калека, неполноценный человек, требующий уход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80880" y="16002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220968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еп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2"/>
          <p:cNvSpPr/>
          <p:nvPr/>
        </p:nvSpPr>
        <p:spPr>
          <a:xfrm flipH="1">
            <a:off x="1942920" y="2209680"/>
            <a:ext cx="75960" cy="22860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-2018-май</dc:creator>
  <dc:description/>
  <dc:language>en-US</dc:language>
  <cp:lastModifiedBy>Гульназ</cp:lastModifiedBy>
  <dcterms:modified xsi:type="dcterms:W3CDTF">2019-11-24T11:17:15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